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A02-3B4E-4B1D-B219-7B1A8133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4FB-80F4-4C22-A295-DCEC7AB8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609-5583-42B6-B949-B61B755E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8C7-3FA3-479C-AEF5-99B5E30B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30D0-2FF4-4926-9147-95FA2C79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lnSpc>
                <a:spcPct val="114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89BE-C701-4C07-B4B5-797035F5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2FF-6AD3-448A-B479-564963A6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E955-DFD4-45CA-BC17-E2B98283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8C39-6DA9-4C3A-953C-40AF0648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ABEB-DFB3-43A3-8AA9-7F6D4E50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563-19FE-439D-B235-E73C5FF3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lnSpc>
                <a:spcPct val="114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57A-C5C4-4434-91FF-F2C2764C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AF4B-4FB6-4FDF-84D4-366AE201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94C7-4181-4C58-9ECD-466CC591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BD00-E37F-4FA3-8608-B5712B68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4A47-C6AF-4E76-B75C-7688B386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BCED-75E6-4BA7-8658-DECD795B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FCB-D91E-4658-A217-65290786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04B-9EBB-4C78-A452-CA367B4D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A20-20B0-4E6D-848B-E3AD4DDE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62F-8C09-43EA-A08B-99021D71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968-3B37-48EC-8017-C962605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6E4-6DD2-4DF9-BA08-C5E444D5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66C-AC38-4ABC-B524-833B7EF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62064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2" marL="85896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3" marL="11430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4" marL="13716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5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6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89520" y="6636960"/>
            <a:ext cx="1920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4DEB-234F-4DD1-B3E8-69D4A1BCFDAF}" type="datetime">
              <a:rPr b="0" lang="en-US" sz="1000" spc="-1" strike="noStrike">
                <a:solidFill>
                  <a:srgbClr val="000000"/>
                </a:solidFill>
                <a:latin typeface="Minion Pro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6720" y="6636960"/>
            <a:ext cx="2351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120" y="6636960"/>
            <a:ext cx="3654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7E91-390B-4611-A2F3-B24B82A9972B}" type="slidenum">
              <a:rPr b="0" lang="en-US" sz="10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:::Documents:ifla-logo.tif"/>
          <p:cNvPicPr/>
          <p:nvPr/>
        </p:nvPicPr>
        <p:blipFill>
          <a:blip r:embed="rId2"/>
          <a:srcRect l="1934" t="0" r="0" b="0"/>
          <a:stretch/>
        </p:blipFill>
        <p:spPr>
          <a:xfrm>
            <a:off x="152280" y="5769000"/>
            <a:ext cx="3124440" cy="100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5373360" y="6324480"/>
            <a:ext cx="39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Garamond"/>
              </a:rPr>
              <a:t>Building Strong Library Associations | Libraries on the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:::Documents:ifla-logo.tif"/>
          <p:cNvPicPr/>
          <p:nvPr/>
        </p:nvPicPr>
        <p:blipFill>
          <a:blip r:embed="rId2"/>
          <a:srcRect l="1934" t="0" r="0" b="0"/>
          <a:stretch/>
        </p:blipFill>
        <p:spPr>
          <a:xfrm>
            <a:off x="152280" y="5769000"/>
            <a:ext cx="3124440" cy="100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5197320" y="6324480"/>
            <a:ext cx="384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Garamond"/>
              </a:rPr>
              <a:t>Building Strong Library Associations | Libraries on the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155600"/>
            <a:ext cx="1601640" cy="3240360"/>
          </a:xfrm>
          <a:prstGeom prst="rect">
            <a:avLst/>
          </a:prstGeom>
          <a:solidFill>
            <a:srgbClr val="006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6507000" y="1066680"/>
            <a:ext cx="2637000" cy="3240360"/>
            <a:chOff x="6507000" y="1066680"/>
            <a:chExt cx="2637000" cy="3240360"/>
          </a:xfrm>
        </p:grpSpPr>
        <p:sp>
          <p:nvSpPr>
            <p:cNvPr id="48" name="Rectangle 6"/>
            <p:cNvSpPr/>
            <p:nvPr/>
          </p:nvSpPr>
          <p:spPr>
            <a:xfrm>
              <a:off x="7650000" y="1066680"/>
              <a:ext cx="1494000" cy="3240360"/>
            </a:xfrm>
            <a:prstGeom prst="rect">
              <a:avLst/>
            </a:prstGeom>
            <a:solidFill>
              <a:srgbClr val="00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6507000" y="1066680"/>
              <a:ext cx="1170000" cy="3240360"/>
            </a:xfrm>
            <a:prstGeom prst="rect">
              <a:avLst/>
            </a:prstGeom>
            <a:solidFill>
              <a:srgbClr val="9fcb7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50000" y="1066680"/>
              <a:ext cx="144720" cy="3240360"/>
            </a:xfrm>
            <a:prstGeom prst="rect">
              <a:avLst/>
            </a:prstGeom>
            <a:solidFill>
              <a:srgbClr val="cd0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62064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2" marL="85896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3" marL="11430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4" marL="1371600" indent="-228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5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6" marL="1371600" indent="-228600">
              <a:lnSpc>
                <a:spcPct val="114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689520" y="6636960"/>
            <a:ext cx="1920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inion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71C0-305F-4797-885D-02354CCA7883}" type="datetime">
              <a:rPr b="0" lang="en-US" sz="1000" spc="-1" strike="noStrike">
                <a:solidFill>
                  <a:srgbClr val="ffffff"/>
                </a:solidFill>
                <a:latin typeface="Minion Pro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6720" y="6636960"/>
            <a:ext cx="2351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0120" y="6636960"/>
            <a:ext cx="3654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2E54-3155-49C2-BE19-2C9BEE36EAC1}" type="slidenum">
              <a:rPr b="0" lang="en-US" sz="1000" spc="-1" strike="noStrike">
                <a:solidFill>
                  <a:srgbClr val="ffffff"/>
                </a:solidFill>
                <a:latin typeface="Minio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99840" y="1196640"/>
            <a:ext cx="4876920" cy="291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900" spc="-1" strike="noStrike">
                <a:solidFill>
                  <a:srgbClr val="006f75"/>
                </a:solidFill>
                <a:latin typeface="Garamond"/>
              </a:rPr>
              <a:t>Advocacy Goes International</a:t>
            </a:r>
            <a:endParaRPr b="0" lang="en-US" sz="49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f75"/>
                </a:solidFill>
                <a:latin typeface="Garamond"/>
              </a:rPr>
              <a:t>Dr. Lesley Farm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f75"/>
                </a:solidFill>
                <a:latin typeface="Garamond"/>
              </a:rPr>
              <a:t>California State University Long Beac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17378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707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ummary of advocacy project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ontext of BSLA program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chool library project goal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Activities and time line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Potential use of materials (1-2 day workshops, individual self-study, group study with an instructor/facilitator) 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0">
              <a:lnSpc>
                <a:spcPct val="114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Need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8920" y="1196640"/>
            <a:ext cx="48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School library improvement depends on decision-makers awarenes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School libraries need advocacy material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aramond"/>
              </a:rPr>
              <a:t>Workshop provides tools and their us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268360" y="-17640"/>
            <a:ext cx="117345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IASL/IFLA Joint Committee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19280" y="1557000"/>
            <a:ext cx="489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Priority: Advocac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Building on IFLA’s Building Strong Library Association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http://iasliflajointcom.pbworks.com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1661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module focuses on the role of school libraries and their associations wit particular reference to functions in communicating, marketing, and advocacy for the increased importance of school librarie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module draws on several communication tools developed by library association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library relationships and communications exist within variety of contexts, which then impact library initiative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Aim of the module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964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key roles of a school library association, and the context within which they operate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dentify key factors in developing effective relationships for school library associations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marketing for school library associations, and how to develop a marketing pla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fine advocacy, and explain how an advocacy role can benefit their school library associatio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dentify key success factors and challenges in developing an advocacy role for their school library association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velop an advocacy plan primarily through the use of a library association case study: identifying outcomes, stakeholders, strategies and performance measures for the issues identified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Describe how to assess communications efforts. 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marL="365040" indent="-255600">
              <a:lnSpc>
                <a:spcPct val="9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xplain how to design a training session for school librarians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Outcomes for participants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79520" y="1110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strac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ey ideas – issues to be considered when reading the case stud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levant topics from the learning material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8119"/>
                </a:solidFill>
                <a:uFillTx/>
                <a:latin typeface="Garamond"/>
              </a:rPr>
              <a:t>Profil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the library association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ope – the background and contex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cription of the main issu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estions to encourage readers to think critically about the issu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rmation sour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6360" indent="-214560">
              <a:lnSpc>
                <a:spcPct val="114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se notes (tag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f75"/>
                </a:solidFill>
                <a:latin typeface="Garamond"/>
              </a:rPr>
              <a:t>Case Studies</a:t>
            </a:r>
            <a:endParaRPr b="0" lang="en-US" sz="4000" spc="-1" strike="noStrike">
              <a:solidFill>
                <a:srgbClr val="006f75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33:56Z</dcterms:created>
  <dc:creator>Angela</dc:creator>
  <dc:description/>
  <dc:language>en-US</dc:language>
  <cp:lastModifiedBy>Lesley S. J. Farmer</cp:lastModifiedBy>
  <dcterms:modified xsi:type="dcterms:W3CDTF">2012-11-18T06:19:11Z</dcterms:modified>
  <cp:revision>71</cp:revision>
  <dc:subject/>
  <dc:title>BSLA Module 2:Attributes of an association</dc:title>
</cp:coreProperties>
</file>