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4C1-ABB7-41DA-916F-E8B07661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D97-4852-4760-B978-F5A4320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5F1-45CA-4D66-8EFC-B71B9E45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D2E-4CDA-4953-8778-D25384A1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CCA4-EF7E-4D48-B537-7280640A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lnSpc>
                <a:spcPct val="114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84D8-DEE6-4B78-AA80-CC9E47E0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3462-B2D0-4FF0-A357-0D31330A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D5EA-D9E1-42EA-9708-C087DBB9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8DC0-A0DC-460E-A7AE-85F42894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0139-D274-42B3-B5C0-B429DEA4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BE59-44D3-419E-B61E-632EE738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lnSpc>
                <a:spcPct val="114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D8D-4F5B-42DD-8C31-204191E4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28F2-BA09-42BA-A613-C33453C0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B766-D0F6-4974-A273-E2524731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126C-7134-4152-9946-41838520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0F20-30BA-44DD-9271-699709FB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7DF5-AD41-4621-B0A1-464AE5BF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5E8-18D8-4BA5-B865-09AFD5ED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E34-CF3B-4456-B77E-D70CA28B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234-79B0-4ACD-8A62-263E77EA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93D-B7F3-404F-B9EB-384021D5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A0A-B1C6-4766-A22B-01542894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382-1402-4A98-B0F1-CFFFC0FB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4A9-1A2A-485E-915A-5CDCE324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62064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2" marL="85896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3" marL="11430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4" marL="13716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5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6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89520" y="6636960"/>
            <a:ext cx="19206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0BCF-F8C7-4F4E-AEB3-96BF97F80AB7}" type="datetime">
              <a:rPr b="0" lang="en-US" sz="1000" spc="-1" strike="noStrike">
                <a:solidFill>
                  <a:srgbClr val="000000"/>
                </a:solidFill>
                <a:latin typeface="Minion Pro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6720" y="6636960"/>
            <a:ext cx="2351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120" y="6636960"/>
            <a:ext cx="3654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508E-69F3-4BA3-9DC6-8448972FF367}" type="slidenum">
              <a:rPr b="0" lang="en-US" sz="10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:::Documents:ifla-logo.tif"/>
          <p:cNvPicPr/>
          <p:nvPr/>
        </p:nvPicPr>
        <p:blipFill>
          <a:blip r:embed="rId2"/>
          <a:srcRect l="1934" t="0" r="0" b="0"/>
          <a:stretch/>
        </p:blipFill>
        <p:spPr>
          <a:xfrm>
            <a:off x="152280" y="5769000"/>
            <a:ext cx="3124440" cy="100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5373360" y="6324480"/>
            <a:ext cx="39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Garamond"/>
              </a:rPr>
              <a:t>Building Strong Library Associations | Libraries on the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:::Documents:ifla-logo.tif"/>
          <p:cNvPicPr/>
          <p:nvPr/>
        </p:nvPicPr>
        <p:blipFill>
          <a:blip r:embed="rId2"/>
          <a:srcRect l="1934" t="0" r="0" b="0"/>
          <a:stretch/>
        </p:blipFill>
        <p:spPr>
          <a:xfrm>
            <a:off x="152280" y="5769000"/>
            <a:ext cx="3124440" cy="100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5197320" y="6324480"/>
            <a:ext cx="384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Garamond"/>
              </a:rPr>
              <a:t>Building Strong Library Associations | Libraries on the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155600"/>
            <a:ext cx="1601640" cy="3240360"/>
          </a:xfrm>
          <a:prstGeom prst="rect">
            <a:avLst/>
          </a:prstGeom>
          <a:solidFill>
            <a:srgbClr val="006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6507000" y="1066680"/>
            <a:ext cx="2637000" cy="3240360"/>
            <a:chOff x="6507000" y="1066680"/>
            <a:chExt cx="2637000" cy="3240360"/>
          </a:xfrm>
        </p:grpSpPr>
        <p:sp>
          <p:nvSpPr>
            <p:cNvPr id="48" name="Rectangle 6"/>
            <p:cNvSpPr/>
            <p:nvPr/>
          </p:nvSpPr>
          <p:spPr>
            <a:xfrm>
              <a:off x="7650000" y="1066680"/>
              <a:ext cx="1494000" cy="3240360"/>
            </a:xfrm>
            <a:prstGeom prst="rect">
              <a:avLst/>
            </a:prstGeom>
            <a:solidFill>
              <a:srgbClr val="00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6507000" y="1066680"/>
              <a:ext cx="1170000" cy="3240360"/>
            </a:xfrm>
            <a:prstGeom prst="rect">
              <a:avLst/>
            </a:prstGeom>
            <a:solidFill>
              <a:srgbClr val="9fcb7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50000" y="1066680"/>
              <a:ext cx="144720" cy="3240360"/>
            </a:xfrm>
            <a:prstGeom prst="rect">
              <a:avLst/>
            </a:prstGeom>
            <a:solidFill>
              <a:srgbClr val="cd0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62064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2" marL="85896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3" marL="11430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4" marL="13716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5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6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689520" y="6636960"/>
            <a:ext cx="19206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inion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C1A8-5DA7-4AEB-A6AE-8F24C4F74705}" type="datetime">
              <a:rPr b="0" lang="en-US" sz="1000" spc="-1" strike="noStrike">
                <a:solidFill>
                  <a:srgbClr val="ffffff"/>
                </a:solidFill>
                <a:latin typeface="Minion Pro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6720" y="6636960"/>
            <a:ext cx="2351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0120" y="6636960"/>
            <a:ext cx="3654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7CD8-BBA3-4EED-AEDA-96D5BFADF8FE}" type="slidenum">
              <a:rPr b="0" lang="en-US" sz="1000" spc="-1" strike="noStrike">
                <a:solidFill>
                  <a:srgbClr val="ffffff"/>
                </a:solidFill>
                <a:latin typeface="Minio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99840" y="1196640"/>
            <a:ext cx="4876920" cy="291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900" spc="-1" strike="noStrike">
                <a:solidFill>
                  <a:srgbClr val="006f75"/>
                </a:solidFill>
                <a:latin typeface="Garamond"/>
              </a:rPr>
              <a:t>Advocacy Goes International</a:t>
            </a:r>
            <a:endParaRPr b="0" lang="en-US" sz="49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6f75"/>
                </a:solidFill>
                <a:latin typeface="Garamond"/>
              </a:rPr>
              <a:t>Dr. Lesley Farm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f75"/>
                </a:solidFill>
                <a:latin typeface="Garamond"/>
              </a:rPr>
              <a:t>California State University Long Beac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17378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Agenda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707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ummary of advocacy project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ontext of BSLA program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chool library project goal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Activities and time line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Potential use of materials (1-2 day workshops, individual self-study, group study with an instructor/facilitator)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Need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18920" y="1196640"/>
            <a:ext cx="48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School library improvement depends on decision-makers awarenes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School libraries need advocacy material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Workshop provides tools and their use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268360" y="-17640"/>
            <a:ext cx="117345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IASL/IFLA Joint Committee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19280" y="1557000"/>
            <a:ext cx="4897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Priority: Advocacy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Building on IFLA’s Building Strong Library Association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http://iasliflajointcom.pbworks.com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1661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module focuses on the role of school libraries and their associations wit particular reference to functions in communicating, marketing, and advocacy for the increased importance of school librarie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module draws on several communication tools developed by library association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library relationships and communications exist within variety of contexts, which then impact library initiative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Aim of the module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964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key roles of a school library association, and the context within which they operate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dentify key factors in developing effective relationships for school library associations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marketing for school library associations, and how to develop a marketing pla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fine advocacy, and explain how an advocacy role can benefit their school library associatio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dentify key success factors and challenges in developing an advocacy role for their school library associatio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velop an advocacy plan primarily through the use of a library association case study: identifying outcomes, stakeholders, strategies and performance measures for the issues identified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scribe how to assess communications efforts. 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how to design a training session for school librarians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Outcomes for participants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79520" y="1110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stract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ey ideas – issues to be considered when reading the case stud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levant topics from the learning material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8119"/>
                </a:solidFill>
                <a:uFillTx/>
                <a:latin typeface="Garamond"/>
              </a:rPr>
              <a:t>Profil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the library association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ope – the background and context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cription of the main issu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uestions to encourage readers to think critically about the issu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rmation sour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se notes (tag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ase Studies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33:56Z</dcterms:created>
  <dc:creator>Angela</dc:creator>
  <dc:description/>
  <dc:language>en-US</dc:language>
  <cp:lastModifiedBy>Lesley S. J. Farmer</cp:lastModifiedBy>
  <dcterms:modified xsi:type="dcterms:W3CDTF">2012-11-18T06:19:11Z</dcterms:modified>
  <cp:revision>71</cp:revision>
  <dc:subject/>
  <dc:title>BSLA Module 2:Attributes of an association</dc:title>
</cp:coreProperties>
</file>