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AAF-7150-4BBF-9181-7AF59F51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BCF-7107-4988-8B1E-4E44FAB6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E3C-6D74-4FD3-966C-EBB74ADF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D05-8CF9-4900-AB2B-641FB0D7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3AC3-2582-4F6A-9815-17FFFA41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lnSpc>
                <a:spcPct val="114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59FF-8B9C-49AC-A2B8-FA1159C8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D1EE-3CC1-4CC4-A4A5-2FC18010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4E8C-948A-4B16-A15C-3F8C0780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BFBB-1CA1-4B6B-879C-3714B893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06C8-8BF7-4822-BE97-3BCAC8C7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6CBF-D135-4982-A08E-C25CB3D2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lnSpc>
                <a:spcPct val="114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34A-E75C-4719-9C6C-99FAB773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3AC6-8D7C-4869-9EFD-052EB12A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821E-D09F-484C-A9F1-E363467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1358-5D70-4EAD-9932-3101B378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7F25-6989-4884-B7FE-828B4644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A179-13DB-42FE-B172-9B88120A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EC3-4EE6-468B-A7AD-8828F9CF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56A-63AD-45D1-A421-D7DB09C6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472-28FB-4AF4-AC6C-51E8858D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7EA-97BC-47D4-A933-38BBA785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389-23C4-41A1-8A60-02FFA3DB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15A-B56B-4F85-B4EB-E65E79B1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DB7-361E-472F-A98E-A99AD71E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62064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2" marL="85896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3" marL="11430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4" marL="13716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5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6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89520" y="6636960"/>
            <a:ext cx="19206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A9BB-512C-425B-84BA-475FDE69E2A8}" type="datetime">
              <a:rPr b="0" lang="en-US" sz="1000" spc="-1" strike="noStrike">
                <a:solidFill>
                  <a:srgbClr val="000000"/>
                </a:solidFill>
                <a:latin typeface="Minion Pro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6720" y="6636960"/>
            <a:ext cx="2351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120" y="6636960"/>
            <a:ext cx="3654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D4A7-5EB9-4041-8EAE-B760A6037715}" type="slidenum">
              <a:rPr b="0" lang="en-US" sz="10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:::Documents:ifla-logo.tif"/>
          <p:cNvPicPr/>
          <p:nvPr/>
        </p:nvPicPr>
        <p:blipFill>
          <a:blip r:embed="rId2"/>
          <a:srcRect l="1934" t="0" r="0" b="0"/>
          <a:stretch/>
        </p:blipFill>
        <p:spPr>
          <a:xfrm>
            <a:off x="152280" y="5769000"/>
            <a:ext cx="3124440" cy="100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5373360" y="6324480"/>
            <a:ext cx="39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Garamond"/>
              </a:rPr>
              <a:t>Building Strong Library Associations | Libraries on the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:::Documents:ifla-logo.tif"/>
          <p:cNvPicPr/>
          <p:nvPr/>
        </p:nvPicPr>
        <p:blipFill>
          <a:blip r:embed="rId2"/>
          <a:srcRect l="1934" t="0" r="0" b="0"/>
          <a:stretch/>
        </p:blipFill>
        <p:spPr>
          <a:xfrm>
            <a:off x="152280" y="5769000"/>
            <a:ext cx="3124440" cy="100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5197320" y="6324480"/>
            <a:ext cx="384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Garamond"/>
              </a:rPr>
              <a:t>Building Strong Library Associations | Libraries on the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155600"/>
            <a:ext cx="1601640" cy="3240360"/>
          </a:xfrm>
          <a:prstGeom prst="rect">
            <a:avLst/>
          </a:prstGeom>
          <a:solidFill>
            <a:srgbClr val="006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6507000" y="1066680"/>
            <a:ext cx="2637000" cy="3240360"/>
            <a:chOff x="6507000" y="1066680"/>
            <a:chExt cx="2637000" cy="3240360"/>
          </a:xfrm>
        </p:grpSpPr>
        <p:sp>
          <p:nvSpPr>
            <p:cNvPr id="48" name="Rectangle 6"/>
            <p:cNvSpPr/>
            <p:nvPr/>
          </p:nvSpPr>
          <p:spPr>
            <a:xfrm>
              <a:off x="7650000" y="1066680"/>
              <a:ext cx="1494000" cy="3240360"/>
            </a:xfrm>
            <a:prstGeom prst="rect">
              <a:avLst/>
            </a:prstGeom>
            <a:solidFill>
              <a:srgbClr val="00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6507000" y="1066680"/>
              <a:ext cx="1170000" cy="3240360"/>
            </a:xfrm>
            <a:prstGeom prst="rect">
              <a:avLst/>
            </a:prstGeom>
            <a:solidFill>
              <a:srgbClr val="9fcb7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50000" y="1066680"/>
              <a:ext cx="144720" cy="3240360"/>
            </a:xfrm>
            <a:prstGeom prst="rect">
              <a:avLst/>
            </a:prstGeom>
            <a:solidFill>
              <a:srgbClr val="cd0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62064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2" marL="85896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3" marL="11430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4" marL="13716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5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6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689520" y="6636960"/>
            <a:ext cx="19206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inion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1530-5919-49B3-8D68-E9A4F017BC30}" type="datetime">
              <a:rPr b="0" lang="en-US" sz="1000" spc="-1" strike="noStrike">
                <a:solidFill>
                  <a:srgbClr val="ffffff"/>
                </a:solidFill>
                <a:latin typeface="Minion Pro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6720" y="6636960"/>
            <a:ext cx="2351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0120" y="6636960"/>
            <a:ext cx="3654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230D-BE34-45D9-9A47-1292DB3E7EFF}" type="slidenum">
              <a:rPr b="0" lang="en-US" sz="1000" spc="-1" strike="noStrike">
                <a:solidFill>
                  <a:srgbClr val="ffffff"/>
                </a:solidFill>
                <a:latin typeface="Minio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99840" y="1196640"/>
            <a:ext cx="4876920" cy="291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900" spc="-1" strike="noStrike">
                <a:solidFill>
                  <a:srgbClr val="006f75"/>
                </a:solidFill>
                <a:latin typeface="Garamond"/>
              </a:rPr>
              <a:t>Advocacy Goes International</a:t>
            </a:r>
            <a:endParaRPr b="0" lang="en-US" sz="49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6f75"/>
                </a:solidFill>
                <a:latin typeface="Garamond"/>
              </a:rPr>
              <a:t>Dr. Lesley Farm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f75"/>
                </a:solidFill>
                <a:latin typeface="Garamond"/>
              </a:rPr>
              <a:t>California State University Long Beac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17378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Agenda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707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ummary of advocacy project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ontext of BSLA program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chool library project goal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Activities and time line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Potential use of materials (1-2 day workshops, individual self-study, group study with an instructor/facilitator)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Need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18920" y="1196640"/>
            <a:ext cx="48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School library improvement depends on decision-makers awarenes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School libraries need advocacy material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Workshop provides tools and their use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268360" y="-17640"/>
            <a:ext cx="117345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IASL/IFLA Joint Committee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19280" y="1557000"/>
            <a:ext cx="4897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Priority: Advocacy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Building on IFLA’s Building Strong Library Association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http://iasliflajointcom.pbworks.com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1661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module focuses on the role of school libraries and their associations wit particular reference to functions in communicating, marketing, and advocacy for the increased importance of school librarie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module draws on several communication tools developed by library association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library relationships and communications exist within variety of contexts, which then impact library initiative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Aim of the module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964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key roles of a school library association, and the context within which they operate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dentify key factors in developing effective relationships for school library associations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marketing for school library associations, and how to develop a marketing pla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fine advocacy, and explain how an advocacy role can benefit their school library associatio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dentify key success factors and challenges in developing an advocacy role for their school library associatio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velop an advocacy plan primarily through the use of a library association case study: identifying outcomes, stakeholders, strategies and performance measures for the issues identified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scribe how to assess communications efforts. 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how to design a training session for school librarians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Outcomes for participants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79520" y="1110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stract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ey ideas – issues to be considered when reading the case stud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levant topics from the learning material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8119"/>
                </a:solidFill>
                <a:uFillTx/>
                <a:latin typeface="Garamond"/>
              </a:rPr>
              <a:t>Profil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the library association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ope – the background and context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cription of the main issu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uestions to encourage readers to think critically about the issu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rmation sour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se notes (tag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ase Studies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33:56Z</dcterms:created>
  <dc:creator>Angela</dc:creator>
  <dc:description/>
  <dc:language>en-US</dc:language>
  <cp:lastModifiedBy>Lesley S. J. Farmer</cp:lastModifiedBy>
  <dcterms:modified xsi:type="dcterms:W3CDTF">2012-11-18T06:19:11Z</dcterms:modified>
  <cp:revision>71</cp:revision>
  <dc:subject/>
  <dc:title>BSLA Module 2:Attributes of an association</dc:title>
</cp:coreProperties>
</file>