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167-DC45-4D9E-BB64-8C4DD742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1DC-811F-4188-B624-A9A5A8A0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7D2-42EB-42A1-B45E-173C314C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940-92DF-4174-B113-90849210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EA0B-6DDB-426B-9D25-7C69CC00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lnSpc>
                <a:spcPct val="114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B8E9-F911-491B-9E4F-5E94A75A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0E55-290E-4F35-8B57-8F1ECB0F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15E6-9938-44CA-87E0-3FEE3B70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1293-9A2B-4FAE-A0CC-E7625A92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6C9E-FB5B-46FA-9F7A-F1F39AA2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1253-0CCF-42A3-8612-67BE4FF7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lnSpc>
                <a:spcPct val="114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69B-BEF2-487F-9BDE-2B9B5D29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F7B7-3F20-476A-9F16-FD32891A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2767-41AA-41EB-A4D1-FF21083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5D94-950D-42DE-8FB7-A214F13E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C60C-20AA-4938-983D-77370903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C94A-7F27-419B-93BC-0ADE7976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5DF-9AE9-4062-9486-6765C22F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CC1-5812-4E70-BA14-E505CBF6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CC3-4021-46EE-AD3A-632A8725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835-B4B9-4EC5-8D42-7870FA99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37C-4F31-4598-9DF9-2E2E2C4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22A-D676-44C6-A9D7-585D0E5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857-81A1-4DA4-AD95-78CACE3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62064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2" marL="85896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3" marL="11430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4" marL="13716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5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6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89520" y="6636960"/>
            <a:ext cx="1920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6368-D89C-46D0-B34F-059261F75A7F}" type="datetime">
              <a:rPr b="0" lang="en-US" sz="1000" spc="-1" strike="noStrike">
                <a:solidFill>
                  <a:srgbClr val="000000"/>
                </a:solidFill>
                <a:latin typeface="Minion Pro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6720" y="6636960"/>
            <a:ext cx="2351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120" y="6636960"/>
            <a:ext cx="3654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A623-457F-4D8D-AE03-E0823969842F}" type="slidenum">
              <a:rPr b="0" lang="en-US" sz="10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:::Documents:ifla-logo.tif"/>
          <p:cNvPicPr/>
          <p:nvPr/>
        </p:nvPicPr>
        <p:blipFill>
          <a:blip r:embed="rId2"/>
          <a:srcRect l="1934" t="0" r="0" b="0"/>
          <a:stretch/>
        </p:blipFill>
        <p:spPr>
          <a:xfrm>
            <a:off x="152280" y="5769000"/>
            <a:ext cx="3124440" cy="100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5373360" y="6324480"/>
            <a:ext cx="39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Garamond"/>
              </a:rPr>
              <a:t>Building Strong Library Associations | Libraries on the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:::Documents:ifla-logo.tif"/>
          <p:cNvPicPr/>
          <p:nvPr/>
        </p:nvPicPr>
        <p:blipFill>
          <a:blip r:embed="rId2"/>
          <a:srcRect l="1934" t="0" r="0" b="0"/>
          <a:stretch/>
        </p:blipFill>
        <p:spPr>
          <a:xfrm>
            <a:off x="152280" y="5769000"/>
            <a:ext cx="3124440" cy="100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5197320" y="6324480"/>
            <a:ext cx="384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Garamond"/>
              </a:rPr>
              <a:t>Building Strong Library Associations | Libraries on the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155600"/>
            <a:ext cx="1601640" cy="3240360"/>
          </a:xfrm>
          <a:prstGeom prst="rect">
            <a:avLst/>
          </a:prstGeom>
          <a:solidFill>
            <a:srgbClr val="006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6507000" y="1066680"/>
            <a:ext cx="2637000" cy="3240360"/>
            <a:chOff x="6507000" y="1066680"/>
            <a:chExt cx="2637000" cy="3240360"/>
          </a:xfrm>
        </p:grpSpPr>
        <p:sp>
          <p:nvSpPr>
            <p:cNvPr id="48" name="Rectangle 6"/>
            <p:cNvSpPr/>
            <p:nvPr/>
          </p:nvSpPr>
          <p:spPr>
            <a:xfrm>
              <a:off x="7650000" y="1066680"/>
              <a:ext cx="1494000" cy="3240360"/>
            </a:xfrm>
            <a:prstGeom prst="rect">
              <a:avLst/>
            </a:prstGeom>
            <a:solidFill>
              <a:srgbClr val="00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6507000" y="1066680"/>
              <a:ext cx="1170000" cy="3240360"/>
            </a:xfrm>
            <a:prstGeom prst="rect">
              <a:avLst/>
            </a:prstGeom>
            <a:solidFill>
              <a:srgbClr val="9fcb7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50000" y="1066680"/>
              <a:ext cx="144720" cy="3240360"/>
            </a:xfrm>
            <a:prstGeom prst="rect">
              <a:avLst/>
            </a:prstGeom>
            <a:solidFill>
              <a:srgbClr val="cd0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62064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2" marL="85896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3" marL="11430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4" marL="13716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5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6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689520" y="6636960"/>
            <a:ext cx="1920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inion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1B1F-27E0-4F38-ABE4-F116D54F2DD5}" type="datetime">
              <a:rPr b="0" lang="en-US" sz="1000" spc="-1" strike="noStrike">
                <a:solidFill>
                  <a:srgbClr val="ffffff"/>
                </a:solidFill>
                <a:latin typeface="Minion Pro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6720" y="6636960"/>
            <a:ext cx="2351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0120" y="6636960"/>
            <a:ext cx="3654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8766-AF34-47F4-BCDD-0883C3259B9B}" type="slidenum">
              <a:rPr b="0" lang="en-US" sz="1000" spc="-1" strike="noStrike">
                <a:solidFill>
                  <a:srgbClr val="ffffff"/>
                </a:solidFill>
                <a:latin typeface="Minio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99840" y="1196640"/>
            <a:ext cx="4876920" cy="291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900" spc="-1" strike="noStrike">
                <a:solidFill>
                  <a:srgbClr val="006f75"/>
                </a:solidFill>
                <a:latin typeface="Garamond"/>
              </a:rPr>
              <a:t>Advocacy Goes International</a:t>
            </a:r>
            <a:endParaRPr b="0" lang="en-US" sz="49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f75"/>
                </a:solidFill>
                <a:latin typeface="Garamond"/>
              </a:rPr>
              <a:t>Dr. Lesley Farm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f75"/>
                </a:solidFill>
                <a:latin typeface="Garamond"/>
              </a:rPr>
              <a:t>California State University Long Beac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17378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707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ummary of advocacy project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ontext of BSLA program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chool library project goal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Activities and time line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Potential use of materials (1-2 day workshops, individual self-study, group study with an instructor/facilitator)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Need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8920" y="1196640"/>
            <a:ext cx="48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School library improvement depends on decision-makers awarenes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School libraries need advocacy material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Workshop provides tools and their us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268360" y="-17640"/>
            <a:ext cx="117345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IASL/IFLA Joint Committee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19280" y="1557000"/>
            <a:ext cx="489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Priority: Advocac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Building on IFLA’s Building Strong Library Association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http://iasliflajointcom.pbworks.com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1661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module focuses on the role of school libraries and their associations wit particular reference to functions in communicating, marketing, and advocacy for the increased importance of school librarie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module draws on several communication tools developed by library association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library relationships and communications exist within variety of contexts, which then impact library initiative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Aim of the module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964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key roles of a school library association, and the context within which they operate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dentify key factors in developing effective relationships for school library associations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marketing for school library associations, and how to develop a marketing pla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fine advocacy, and explain how an advocacy role can benefit their school library associatio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dentify key success factors and challenges in developing an advocacy role for their school library associatio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velop an advocacy plan primarily through the use of a library association case study: identifying outcomes, stakeholders, strategies and performance measures for the issues identified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scribe how to assess communications efforts. 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how to design a training session for school librarians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Outcomes for participants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79520" y="1110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strac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ey ideas – issues to be considered when reading the case stud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levant topics from the learning material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8119"/>
                </a:solidFill>
                <a:uFillTx/>
                <a:latin typeface="Garamond"/>
              </a:rPr>
              <a:t>Profil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the library association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ope – the background and contex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cription of the main issu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estions to encourage readers to think critically about the issu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rmation sour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se notes (tag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ase Studies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33:56Z</dcterms:created>
  <dc:creator>Angela</dc:creator>
  <dc:description/>
  <dc:language>en-US</dc:language>
  <cp:lastModifiedBy>Lesley S. J. Farmer</cp:lastModifiedBy>
  <dcterms:modified xsi:type="dcterms:W3CDTF">2012-11-18T06:19:11Z</dcterms:modified>
  <cp:revision>71</cp:revision>
  <dc:subject/>
  <dc:title>BSLA Module 2:Attributes of an association</dc:title>
</cp:coreProperties>
</file>